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64C-FDA4-4667-8D50-C03964A2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4B6-8206-4FB0-9B2A-ABBA8138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715-4FD9-4759-9DC8-7E5D9CAD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0EE-B705-4CF2-8CE6-F55886A7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395-B737-4DC4-8D0B-52F15DDC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A06-722F-4C77-996C-FC780DA8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B9E-7375-4113-83C9-62B45EDB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8EB-7F0D-44F3-BE76-822A522C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8FB-6779-48E7-AFEB-B5067E43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5C9-E21A-4FE8-9450-825C745E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B9A-B53E-4472-979C-B33701B9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5FF-9579-43F9-821F-349A548D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579A-C2B9-4F7D-A736-6E46BA2AAC1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81360"/>
            <a:ext cx="5410080" cy="22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000000"/>
                </a:solidFill>
                <a:latin typeface="Tahoma"/>
                <a:cs typeface="????Boutros Rokaa"/>
              </a:rPr>
              <a:t>وحدت يا رب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58920" y="1981080"/>
            <a:ext cx="76564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حّدتَ يا ربُّ لاهوتَكَ بناسوتِنا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ناسوتَنا بلاهوتِكَ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اتَكَ بموتِنا وموتَنا بحياتِك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78320" y="0"/>
            <a:ext cx="5486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خذتَ ما ل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وهبتنا ما لك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تُحيينا وتُخلِّص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كَ المجدُ إلى الأبد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7-04-03T19:08:50Z</dcterms:modified>
  <cp:revision>8</cp:revision>
  <dc:subject/>
  <dc:title>PowerPoint Presentation</dc:title>
</cp:coreProperties>
</file>